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66A97-98D2-44E4-A431-C97DF5742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DC6E2-1D0F-4ED4-BDA2-90AB1FCA6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68650-333C-41F3-88CF-42EDBC41E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027D0-C39A-4FD9-9034-91B86F4DB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CC679-9D65-431F-BC90-864BDB78A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BDAB7-8956-4CD2-A18C-B0D7A04C7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6F830-7567-4E4D-8A59-4DF0D2EF2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D856A-EE9C-4C58-84E0-7AA54198D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E9580-7A6A-4E68-96FC-AC7DF03E7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3D1C1-45B3-40BF-A564-6C2690C70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E6BA5-2C91-45A9-9202-0C36EB448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DB693-1FCB-45A7-AE1F-765AF9A80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99D16-18B3-4B14-A73E-E07040C8D56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983600" y="2362320"/>
            <a:ext cx="4915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Criteria for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Confounding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rcRect l="0" t="0" r="0" b="10264"/>
          <a:stretch/>
        </p:blipFill>
        <p:spPr>
          <a:xfrm>
            <a:off x="1295280" y="1219320"/>
            <a:ext cx="6629400" cy="44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rcRect l="0" t="0" r="0" b="10264"/>
          <a:stretch/>
        </p:blipFill>
        <p:spPr>
          <a:xfrm>
            <a:off x="1371600" y="1219320"/>
            <a:ext cx="6477120" cy="43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0" r="0" b="7610"/>
          <a:stretch/>
        </p:blipFill>
        <p:spPr>
          <a:xfrm>
            <a:off x="1523880" y="1305000"/>
            <a:ext cx="6324840" cy="44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0" t="0" r="0" b="7610"/>
          <a:stretch/>
        </p:blipFill>
        <p:spPr>
          <a:xfrm>
            <a:off x="1371600" y="1247760"/>
            <a:ext cx="65530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0" t="0" r="0" b="7610"/>
          <a:stretch/>
        </p:blipFill>
        <p:spPr>
          <a:xfrm>
            <a:off x="1523880" y="1509840"/>
            <a:ext cx="640080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0" t="0" r="0" b="7610"/>
          <a:stretch/>
        </p:blipFill>
        <p:spPr>
          <a:xfrm>
            <a:off x="1371600" y="1295280"/>
            <a:ext cx="6553080" cy="457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rcRect l="0" t="0" r="0" b="10264"/>
          <a:stretch/>
        </p:blipFill>
        <p:spPr>
          <a:xfrm>
            <a:off x="914400" y="685800"/>
            <a:ext cx="74674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rcRect l="0" t="0" r="0" b="47027"/>
          <a:stretch/>
        </p:blipFill>
        <p:spPr>
          <a:xfrm>
            <a:off x="1143000" y="1050840"/>
            <a:ext cx="6858000" cy="27432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rcRect l="0" t="12918" r="0" b="44711"/>
          <a:stretch/>
        </p:blipFill>
        <p:spPr>
          <a:xfrm>
            <a:off x="1143000" y="3733920"/>
            <a:ext cx="6858000" cy="21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rcRect l="0" t="0" r="0" b="12918"/>
          <a:stretch/>
        </p:blipFill>
        <p:spPr>
          <a:xfrm>
            <a:off x="1371600" y="1460520"/>
            <a:ext cx="6781680" cy="445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rcRect l="0" t="0" r="0" b="7610"/>
          <a:stretch/>
        </p:blipFill>
        <p:spPr>
          <a:xfrm>
            <a:off x="1143000" y="1066680"/>
            <a:ext cx="6934320" cy="483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rcRect l="0" t="0" r="0" b="7610"/>
          <a:stretch/>
        </p:blipFill>
        <p:spPr>
          <a:xfrm>
            <a:off x="1371600" y="1371600"/>
            <a:ext cx="6629400" cy="462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rcRect l="0" t="0" r="0" b="10264"/>
          <a:stretch/>
        </p:blipFill>
        <p:spPr>
          <a:xfrm>
            <a:off x="1447920" y="1211400"/>
            <a:ext cx="6629400" cy="44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rcRect l="0" t="0" r="0" b="18213"/>
          <a:stretch/>
        </p:blipFill>
        <p:spPr>
          <a:xfrm>
            <a:off x="1371600" y="1469880"/>
            <a:ext cx="6629400" cy="409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rcRect l="0" t="0" r="0" b="10264"/>
          <a:stretch/>
        </p:blipFill>
        <p:spPr>
          <a:xfrm>
            <a:off x="1295280" y="1143000"/>
            <a:ext cx="6782040" cy="45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rcRect l="0" t="0" r="0" b="7610"/>
          <a:stretch/>
        </p:blipFill>
        <p:spPr>
          <a:xfrm>
            <a:off x="1219320" y="990720"/>
            <a:ext cx="678168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6T01:37:56Z</dcterms:created>
  <dc:creator>david g. kleinbaum</dc:creator>
  <dc:description/>
  <dc:language>en-US</dc:language>
  <cp:lastModifiedBy>dkleinb</cp:lastModifiedBy>
  <dcterms:modified xsi:type="dcterms:W3CDTF">2003-10-28T17:52:34Z</dcterms:modified>
  <cp:revision>217</cp:revision>
  <dc:subject/>
  <dc:title>Slide 1</dc:title>
</cp:coreProperties>
</file>